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26F-5FDC-4481-BCF5-45DCE27C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BF3-F683-4931-A297-3B4968FC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68D-EC49-4310-B5E2-B1A3C524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305-6720-4D36-8415-66885B26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D3F-62F0-47B3-A5B2-9CE713B3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FD9-D609-4CDE-B155-6D02DB3F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6776-8B2D-4311-915D-5BE81ED1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880-F06A-4E80-9273-ECBACA13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78F-85C1-4B7D-94D3-9E95CCF4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439-CEFC-47D6-8F0A-1F7E37D8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0F5-622F-4970-924C-E118879E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914-8681-41C7-A435-3A4840D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F82F-2CEC-44E7-B114-1AE45D9E3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4:38:53Z</dcterms:created>
  <dc:creator>abeason</dc:creator>
  <dc:description/>
  <dc:language>en-US</dc:language>
  <cp:lastModifiedBy>abeason</cp:lastModifiedBy>
  <dcterms:modified xsi:type="dcterms:W3CDTF">2009-10-21T14:39:00Z</dcterms:modified>
  <cp:revision>1</cp:revision>
  <dc:subject/>
  <dc:title>Slide 1</dc:title>
</cp:coreProperties>
</file>